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A1B40-223E-4927-A25E-F4C245ACB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B2799-F895-4001-91D7-F71C2A0F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66038-5EF7-455B-9DB0-CC8E66427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8EDAF-E8AB-4AAA-87A8-4714CE6EA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A021-EE09-440D-A4AE-4DA110471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D55D-7777-4EC2-9AF3-F8E83280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40BF-5196-4535-9427-CF8A038D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E635-635C-4D6E-8852-5F6BE845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4171-4E73-4D81-A95D-672BF648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E1F2-2FDE-44A5-89B7-555FD582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0E05-B741-46A6-8004-44935C53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12DE5-B144-424F-B2AD-1E9815E7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0D5F-EA90-46CC-B4B5-384BF908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0508-3B45-480F-9CDE-AE7B2262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1264-39C2-4806-9AF1-D639D27D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4F73-FE2A-4CFD-AC81-FD2E79C2F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C744-24F0-4D5E-860E-14954E87E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DCB47-1002-4B2C-A82A-32C0E6F3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701E0-6512-42C5-A32B-A5795B02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8578A-CBC9-4190-BD91-BB105677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39860-B63D-4E7F-9797-BD12C4DB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7EC04-28DA-4FF4-84E3-AF20DC26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E34AE-140D-4F13-BF0D-5CFCD024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E8C36-A0AC-49F4-9CD4-AF9A3A7F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F6E6-123C-48B2-BC4F-D7C70D513E1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1F00-1AD2-42ED-A9BA-702CB1DD63C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58560" y="4797360"/>
            <a:ext cx="7677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Цифровые процессоры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обработки сигналов фирмы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otoro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Е.А. Сторожок, доц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правляет конвейерной обработкой команд, аппаратной организацией цикл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обращением к подпрограммам и обслуживанием прерыва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оста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ходя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енератор адреса программ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троллер декодирования команд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троллер прерываний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змещаю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граммный счетчик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гистр начального адреса цикл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четчик циклов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гистр состояния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гистр режима обработк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M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истемный стек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гистр указателя стек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SPR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ный стек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базового семейства процессо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SP5600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бъемом 3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держивает до 7 цикл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ли 15 прерываний, или 15 вложенных подпрограм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A/IR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B/IRQ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C/N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троллер программного прерыван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меет четыре вывод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A/IRQA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B/IRQ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спользуются для установки режимов обработк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приема маскируемых запросов на прерывание (управляющих сигналов) от внешних аппаратных источ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C/NM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спользуется для установки режима обработки 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приема немаскируемых запросов на прерывание от внешних аппаратных источ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ы обработк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формируют конфигурацию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, Y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и, а также определяют процедуру запуска процессора после его выхода из состояния сбро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T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уется для установки процессора в начальное состояние, называемое состоянием сбро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нератор тактовых импульсов(ГТИ) с фазовой автоподстройкой частоты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тор тактовых импульсов (ГТИ) с фазовой автоподстройкой частоты (ФАПЧ и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позволяет формировать тактовые импульсы высокой частоты внутри процессора при низкочастотном внешнем задающем генераторе. Границы диапазона тактовых частот регулируются от минимальной (обычно 10МГц) до максимальной, которая зависит от возможностей внешнего генератора и коэффициента умножения, устанавливаемого программно. В состоянии останова процессора генераторное оборудование остается активным, хотя ГТИ запирается, поэтому процессор переходит на минимально возможное потребление мощ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9152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ссоры семейств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P56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меют три пор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еспечивающий разносторонний интерфейс с внешней памятью и внешней периферией как быстродействующей, так и низкоскоростной. Порт содержит внешнюю адресную 16-разрядную шину, внешнюю 24-разрядную шину данных и шину управления пор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Шина управления обеспечивает управление чтением/записью по шине данных, выбор адресного пространства памяти и управление магистральной шиной при организации  многопроцессорной системы; обмен данными осуществляется в параллельном форма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терфейс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последовательного обмена данным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рт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тносятся к внутрикристальной периферии; способы их использования определяются специальными регистрами данных и состояния, размещенными во внутрикристально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3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ожет использоваться либо как порт ввода/вывода общего назначения, либо ка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интерфейс. Второй вариант применяется в том случае, когда процессор входит в состав некоторой системы ЦОС и есть необходимость взаимодействия с ведущим процессором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ссором)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мен данными осуществляется по 8-разрядной шине в последовательно-параллельном формате: 24-разрядные данные делятся на три байта, которые передаются в параллельном формате последовательно друг за друг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едставляет собой последовательный интерфейс, предназначенный для дуплексного асинхронного и синхронного обменов данными с внешней периферией. Направление передачи данных на выводах порт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яется программно. Прием/передача данных осуществляется последовательно, начиная с младшего (0-го) или старшего (23-го) бита 24-разрядного слова, которое, в свою очередь, передается побайтно. Формат асинхронного слова, кроме байта данных, содержит дополнительные служебные биты и поэтому может быть 10- или 11-разряд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утрикристальный эмулятор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утрикристальный эмулято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является аппаратным элементом системы отладки и работает под управлением ведущего компьютера, на который инсталлируют программные средства отладки. Эмулятор обеспечивает быстрый и независимый доступ к внутренним регистрам и периферии процессора для проверки их состояния. Связь между эмулятором и компьютером осуществляется с помощью специального устройства – внешнего контроллера коман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шний контроллер и программные средства отладки поставляются фирмой-производителем процес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1120" y="1773360"/>
            <a:ext cx="86425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200000"/>
              </a:lnSpc>
              <a:spcBef>
                <a:spcPts val="799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бщенная структур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SP56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200000"/>
              </a:lnSpc>
              <a:spcBef>
                <a:spcPts val="799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рхитектура процессоров базового семейств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SP56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общенная структур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DSP56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932360" y="1125360"/>
            <a:ext cx="381636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280" indent="168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юбом процессор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P56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 кристалле функционально можно выделить две ча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центральный модуль обрабо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бласть расши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й модуль обработки является основой любого процессор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P56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 его состав входя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ифметико-логическое устройство данных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о генерации адрес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G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ны данны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ны адрес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ы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,B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в зависимости от модифик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икристальный эмулятор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O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ратор тактовых импульсов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 фазовой автоподстройкой частоты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L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ФАПЧ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DSP56K"/>
          <p:cNvPicPr/>
          <p:nvPr/>
        </p:nvPicPr>
        <p:blipFill>
          <a:blip r:embed="rId1"/>
          <a:stretch/>
        </p:blipFill>
        <p:spPr>
          <a:xfrm>
            <a:off x="250920" y="1052640"/>
            <a:ext cx="4608360" cy="5545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7318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рхитектура процессоров базового семейств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SP56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403280" y="1773360"/>
            <a:ext cx="652788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е компоненты архитек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на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на адре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ройство генерации адрес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G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нератор тактовых импульсов (ГТИ) с фазовой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подстройкой частоты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рикристальный эмулятор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4859280" y="1125360"/>
            <a:ext cx="388944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280" indent="168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области расширения размещаютс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мять данных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мять программ и периферийные модули. Организация памяти определяется конкретным типом процесс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остав центрального модуля входя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ины данны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ины адрес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рифметико-логическое устройство данны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LU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нны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тройство генерации адрес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рты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,B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в зависимости от модификаци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утрикристальный эмулятор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нератор тактовых импульсов ГТИ с фазовой автоподстройкой частот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ФАПЧ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DSP56000"/>
          <p:cNvPicPr/>
          <p:nvPr/>
        </p:nvPicPr>
        <p:blipFill>
          <a:blip r:embed="rId1"/>
          <a:stretch/>
        </p:blipFill>
        <p:spPr>
          <a:xfrm>
            <a:off x="395280" y="1341360"/>
            <a:ext cx="4568760" cy="5300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рхитектура процессоров базового семейств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SP56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907920"/>
            <a:ext cx="84358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ются четыре двунаправленных 24-разрядных шины данны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ина программ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B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по которой передаются коман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шин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DB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нных, обеспечивающая обмен данными с внутренней или внешней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ерез порт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ерифери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ин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DB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D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едназначены для передачи данных между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анных 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мятью, соответственно. При необходимости 24-разрядные шин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D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D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огут быть объединены в одну 48-разрядную шин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ая (24-разрядная) шин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D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беспечивает обмен данными с внутрикристальной и внешней перифериями. Обмен данными с внешней периферией может осуществляться через внешнюю шину порт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параллельном формате, 8-разрядную шину данны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терфейса (пор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последовательно-параллельном формате и через пор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последовательном форма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дачу данных между шинами осуществляет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ереключатель внутренних шин данны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Переключатель дополнительно содержит блок манипуляции битами, позволяющий управлять состоянием битов любого типа ячеек памяти данных и регист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анных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U, PC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ины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ины адре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ины адресов используются для адресации ячеек памя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еются две однонаправленные шины адресов данны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одна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вунаправленна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шина адреса програм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ин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AB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спользуются для адресац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и, соответствен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B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назначена для адресац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ресация внешней памяти осуществляется через единственную однонаправленную шину, которая подключается 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AB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Выбором шины управляет переключатель внешней шины адреса – мультиплексор с тремя вход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адресации внешней памяти необходимо учитывать, что в одном командном цикле доступно только одно пространство внешней памяти. В этом случае командный цикл реализуется без дополнительной задержки. Обращение к внешним пространствам памяти контролирует устройство управления шин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U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569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U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х выполняет все арифметические и логические операции над операндами. 24-разрядные процессоры базового семейств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P560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меют в своем соста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тыре 24-разрядных входных регист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а 56-разрядных аккумулятора, каждый из которых содержит 48-разрядный регистр аккумулятора и 8-разрядный регистр расшир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а сдвигателя/ограничителя данны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раллельное одноцикловое устройство умножения с накопл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ы расширения хранят целую часть результата. Ее максимальное значение по модулю равно 255. Возможен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ежим насыщ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огласно которому, если 48-разрядный результат операции оказывается больше максимально допустимого (при переполнении) либо меньше минимального допустимого (при потере значимости), в процессоре автоматически устанавливается соответствующая амплитуда насы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ходные регистры могут объединяться в пары, удваивая таким образом разрядность обрабатываемых дан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ройство генерации адрес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358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ойство генерации адрес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полняет все операции, связанные с определением и хранением адресов в режиме косвенной адресации. Это устройство работает независимо от остальных блоков процессора. Формирование адреса происходит параллельно с другими операциями процессора. Процессоры фирм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orol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ладают чрезвычайно мощной системой адресации, позволяющей производить манипуляции с данными за один командный цик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оста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U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ходят два одинаковых арифметических блока, формирующие два 16-разрядных адреса в каждом командном цикле. При формировании адреса могут использоваться три типа арифметики: линейная, модульная и бит-реверсив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2:57:13Z</dcterms:modified>
  <cp:revision>9</cp:revision>
  <dc:subject/>
  <dc:title>Микропроцессорные системы</dc:title>
</cp:coreProperties>
</file>